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C8BD-5C04-4474-811E-828DF75C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4C41-7D02-4519-A732-86B9DD91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9FA-0D91-40B8-8F64-4573478E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043-3D0E-44FF-8C04-4D2710AA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589-32AC-402A-8748-EDB9D0A1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FAE-ECBA-4288-A5EC-8887BD41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DCC-7625-4661-AAE8-273B6807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7ED-6C26-4824-8854-CA45AAD9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3BB-14DA-4BEC-96DE-57E5A104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11D-8853-44BD-BCF0-EC108D2E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BFA-348C-4163-9C18-CB7299DA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BCB-9872-49B5-A3F7-016070A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C3F-8763-4FE0-8A03-32F5A899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E1B-4816-4FFC-8209-F21FEED4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340E-7898-4339-8484-F79F9EAF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mal 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Kamal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er fotos de Kamal M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viar mensaje a Kamal M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olpea a Kamal M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462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533520" y="4724280"/>
            <a:ext cx="1218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4419720"/>
            <a:ext cx="1600200" cy="24624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is Amigo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Hola! Mi nombre es Kamal Yo vivo en New York. Tengo quince años. Tengo tres hermanos. Muy buenos.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763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si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76320" y="640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shmi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60948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cy.            Sona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8862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Tasin.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Cómo estas? Mis compleanos manan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200400"/>
            <a:ext cx="44197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Trac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 kamal. Mis cumpleanos hoy.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25146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Sonam.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ás kamal. Yo estoy dieciseis anos.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441972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Rashmi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. Yo estoy catorce anos. ¿Y tú?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5181480"/>
            <a:ext cx="4419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Viviana.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. Ellos deber ser feliz es su compleanos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943600"/>
            <a:ext cx="44197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Tracy.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 lin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uántos anos tiene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995400" y="6400800"/>
            <a:ext cx="55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vian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1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3" descr="http://disney-clipart.com/Beauty-Beast/characters/Princess-Belle-Christmas.jpg"/>
          <p:cNvPicPr/>
          <p:nvPr/>
        </p:nvPicPr>
        <p:blipFill>
          <a:blip r:embed="rId1"/>
          <a:stretch/>
        </p:blipFill>
        <p:spPr>
          <a:xfrm>
            <a:off x="0" y="380880"/>
            <a:ext cx="182556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5" descr="http://t0.gstatic.com/images?q=tbn:ANd9GcSUADhEATlyCEL3Y5qEBk2yBHEhLvh6Hm17_jY3_FDiuZeiu1w0"/>
          <p:cNvPicPr/>
          <p:nvPr/>
        </p:nvPicPr>
        <p:blipFill>
          <a:blip r:embed="rId2"/>
          <a:stretch/>
        </p:blipFill>
        <p:spPr>
          <a:xfrm>
            <a:off x="152280" y="4800600"/>
            <a:ext cx="4842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7" descr="http://t1.gstatic.com/images?q=tbn:ANd9GcS39XxXEarpAg5NRC07oO4akpU0_a0lyLK31mXV3bG2vekbXOjwyQ"/>
          <p:cNvPicPr/>
          <p:nvPr/>
        </p:nvPicPr>
        <p:blipFill>
          <a:blip r:embed="rId3"/>
          <a:stretch/>
        </p:blipFill>
        <p:spPr>
          <a:xfrm>
            <a:off x="1066680" y="5715000"/>
            <a:ext cx="457200" cy="703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1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3" descr="http://t3.gstatic.com/images?q=tbn:ANd9GcTTlx17R4ojm74LDbFAx0l355eZ1mU-a8igSUwvhTeSx93kXmKw"/>
          <p:cNvPicPr/>
          <p:nvPr/>
        </p:nvPicPr>
        <p:blipFill>
          <a:blip r:embed="rId4"/>
          <a:stretch/>
        </p:blipFill>
        <p:spPr>
          <a:xfrm>
            <a:off x="0" y="5715000"/>
            <a:ext cx="6094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http://t1.gstatic.com/images?q=tbn:ANd9GcQatmty-3bSbY-62Y7VrJnr5tgUN26TH3T9CoKDXr5x3YTb-Bxa"/>
          <p:cNvPicPr/>
          <p:nvPr/>
        </p:nvPicPr>
        <p:blipFill>
          <a:blip r:embed="rId5"/>
          <a:stretch/>
        </p:blipFill>
        <p:spPr>
          <a:xfrm>
            <a:off x="762120" y="4836960"/>
            <a:ext cx="380880" cy="6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7" descr="http://t1.gstatic.com/images?q=tbn:ANd9GcQw_OQxXySSE3NY0qk381i77LrSPnGjB9eM1wAKZP9mvGqcEL4zvA"/>
          <p:cNvPicPr/>
          <p:nvPr/>
        </p:nvPicPr>
        <p:blipFill>
          <a:blip r:embed="rId6"/>
          <a:stretch/>
        </p:blipFill>
        <p:spPr>
          <a:xfrm>
            <a:off x="1295280" y="4724280"/>
            <a:ext cx="567000" cy="722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5" descr="http://t0.gstatic.com/images?q=tbn:ANd9GcSUADhEATlyCEL3Y5qEBk2yBHEhLvh6Hm17_jY3_FDiuZeiu1w0"/>
          <p:cNvPicPr/>
          <p:nvPr/>
        </p:nvPicPr>
        <p:blipFill>
          <a:blip r:embed="rId7"/>
          <a:stretch/>
        </p:blipFill>
        <p:spPr>
          <a:xfrm>
            <a:off x="2209680" y="3809880"/>
            <a:ext cx="48420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http://t1.gstatic.com/images?q=tbn:ANd9GcS39XxXEarpAg5NRC07oO4akpU0_a0lyLK31mXV3bG2vekbXOjwyQ"/>
          <p:cNvPicPr/>
          <p:nvPr/>
        </p:nvPicPr>
        <p:blipFill>
          <a:blip r:embed="rId8"/>
          <a:stretch/>
        </p:blipFill>
        <p:spPr>
          <a:xfrm>
            <a:off x="2133720" y="5105520"/>
            <a:ext cx="457200" cy="70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http://t1.gstatic.com/images?q=tbn:ANd9GcQw_OQxXySSE3NY0qk381i77LrSPnGjB9eM1wAKZP9mvGqcEL4zvA"/>
          <p:cNvPicPr/>
          <p:nvPr/>
        </p:nvPicPr>
        <p:blipFill>
          <a:blip r:embed="rId9"/>
          <a:stretch/>
        </p:blipFill>
        <p:spPr>
          <a:xfrm>
            <a:off x="2133720" y="2514600"/>
            <a:ext cx="533160" cy="67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3" descr="http://t3.gstatic.com/images?q=tbn:ANd9GcTTlx17R4ojm74LDbFAx0l355eZ1mU-a8igSUwvhTeSx93kXmKw"/>
          <p:cNvPicPr/>
          <p:nvPr/>
        </p:nvPicPr>
        <p:blipFill>
          <a:blip r:embed="rId10"/>
          <a:stretch/>
        </p:blipFill>
        <p:spPr>
          <a:xfrm>
            <a:off x="2133720" y="4495680"/>
            <a:ext cx="484200" cy="58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5" descr="http://t1.gstatic.com/images?q=tbn:ANd9GcQatmty-3bSbY-62Y7VrJnr5tgUN26TH3T9CoKDXr5x3YTb-Bxa"/>
          <p:cNvPicPr/>
          <p:nvPr/>
        </p:nvPicPr>
        <p:blipFill>
          <a:blip r:embed="rId11"/>
          <a:stretch/>
        </p:blipFill>
        <p:spPr>
          <a:xfrm>
            <a:off x="2209680" y="32767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5" descr="http://t1.gstatic.com/images?q=tbn:ANd9GcQatmty-3bSbY-62Y7VrJnr5tgUN26TH3T9CoKDXr5x3YTb-Bxa"/>
          <p:cNvPicPr/>
          <p:nvPr/>
        </p:nvPicPr>
        <p:blipFill>
          <a:blip r:embed="rId12"/>
          <a:stretch/>
        </p:blipFill>
        <p:spPr>
          <a:xfrm>
            <a:off x="2133720" y="5943600"/>
            <a:ext cx="3808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6:40Z</dcterms:modified>
  <cp:revision>113</cp:revision>
  <dc:subject/>
  <dc:title>Profile</dc:title>
</cp:coreProperties>
</file>